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5616-753C-4D9E-9757-E73D116F3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2752-8FD9-40F7-8750-E1FEFB3D7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5D00-8345-4807-9747-702004673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EDFC-D15F-46D9-90EF-B65160592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2EAC5-0750-4D92-BF50-214B320AE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1023A-07C2-4E1F-AD21-57289A205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D15C4-9BBB-4B7F-BF12-4FE039954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5D526-5B23-43AE-AC29-C7BD5422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19045-FB2D-43C1-8049-23BC917C9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E854A-69E5-4668-B5F0-0D3F23279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4EC8D-5445-46F5-B7C0-EFDD747B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807E-2B41-4E48-AA33-38ADE0018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FBBAC-3CB8-48D0-A581-B6D11217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E1BB7-D5AD-460E-8087-6189B521D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61272-E570-4C20-BB2F-E1D00EB67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89E2A-F295-498B-BBB1-DB9F92442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21C88-A2D4-4605-8AB3-71AA6BFE0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C7DCA-DA44-44F5-8899-700586C78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D92BA-AC98-4D4F-AE79-1B4B8C0D5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ADE49-B7D5-49F1-B119-249F35737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110F1-E7ED-405C-9B3B-9B8EBEB9C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B6AEF-1FE7-4AB8-9DD5-0CEE29426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BE4A-92E1-4F4C-855A-D478C237D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77232-F9AF-4E87-8A71-7EA0C3A85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E04B0-18C8-4FFB-86ED-FB6EA5E0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8788D-E134-4B04-A7DD-F20646ED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F2F28-A283-40C4-8464-B82EEEBA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556BD-ECE5-4C4B-9493-5A28BCA9D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5D369-7BD2-4F1A-BF04-6FF10A6AB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3F62F-FADE-4517-91BA-F567864DF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11FF7-6CA2-4E2C-AB80-D683DE03E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E011A-B56A-4F72-B2E7-736264251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FD03C-6A3F-4A0A-BEB2-B72D94017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BE50-58BD-4F04-8256-F5827A52D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9AC44-D9D1-4225-AA20-A99AD74B8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A530E-D257-4E5E-93D7-BD35C9AC0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B9217D-8748-44CE-A85D-1A2FB7DF9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F281A-D5DC-4CA2-A789-B58D76DE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14A2F-972B-4F23-9846-2675C862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01497-90AF-46CB-B600-FAFA2A88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B718F-20D5-428B-852E-3239CEBD0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C3683-D0BC-413E-BD3C-BA3E666E6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ECEF8-E015-439B-B0D6-405684052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67488-CA76-485E-885F-BBBC60AA9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1489-657D-47F1-A48C-C8FD5B0C9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95F97-4E83-42C2-AA08-61E8276E1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09FC7-487A-4125-AEE3-40B43F6A7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BAE42-451D-4E73-AC71-020B7053C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2B136-B5A4-423D-B9F4-00283845B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DFEB4-8914-4155-89AA-A5EE50F1D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73DF5-5FF4-410F-A5B9-D4B5760A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24627-85E6-4EE8-B491-30422748F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AB484-84D7-4D27-ACE2-7070A918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27E47-7656-472B-A112-C2F564A95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52D95-5B64-4D9D-90DE-D3EB56660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9765-0961-4B5F-AFD0-8CCDA65D1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E06E4-C961-472F-877D-40D67FBF6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7C78-4E14-4DDE-824D-A728100D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107B-520D-4477-9357-9F0A0823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6331-601B-47F4-B359-6A14E41F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CF1A1-07B2-4689-8578-857CF615C9E7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03895-1906-4C6C-B2FB-DAA81B2B52EA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995BA-1AC9-4BDE-8665-1015FB104364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EF78F-53ED-41DA-AA21-35DDAD3354A7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C97CB-7B97-49E7-B3D6-E6B4CCF62C2F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066320"/>
            <a:ext cx="8381880" cy="3581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6000" spc="-1" strike="noStrike">
                <a:solidFill>
                  <a:srgbClr val="ffff00"/>
                </a:solidFill>
                <a:latin typeface="Arial"/>
                <a:ea typeface="Arial"/>
              </a:rPr>
              <a:t>  </a:t>
            </a:r>
            <a:r>
              <a:rPr b="1" lang="sr-CS" sz="6000" spc="-1" strike="noStrike">
                <a:solidFill>
                  <a:srgbClr val="ffff00"/>
                </a:solidFill>
                <a:latin typeface="Arial"/>
                <a:ea typeface="Arial"/>
              </a:rPr>
              <a:t>НУКЛЕИНСКЕ КИСЕЛИНЕ:</a:t>
            </a:r>
            <a:br>
              <a:rPr sz="6000"/>
            </a:br>
            <a:r>
              <a:rPr b="1" lang="sr-CS" sz="6000" spc="-1" strike="noStrike">
                <a:solidFill>
                  <a:srgbClr val="ffff00"/>
                </a:solidFill>
                <a:latin typeface="Arial"/>
                <a:ea typeface="Arial"/>
              </a:rPr>
              <a:t>ДНК и РНК</a:t>
            </a:r>
            <a:endParaRPr b="0" lang="en-US" sz="60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4617b"/>
                </a:solidFill>
                <a:latin typeface="Arial"/>
              </a:rPr>
              <a:t>Денатурација и ренатурациј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Загревањем медијума на коме се налази молекул ДНК кидају се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одонич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везе и расплићу се ланц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sr-Latn-CS" sz="2400" spc="-1" strike="noStrike">
                <a:solidFill>
                  <a:srgbClr val="ff0000"/>
                </a:solidFill>
                <a:latin typeface="Arial"/>
              </a:rPr>
              <a:t>денатурациј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остепеним хлађењем медијума поново се успостављају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одонич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везе и хеликоидна структура –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400" spc="-1" strike="noStrike">
                <a:solidFill>
                  <a:srgbClr val="ff0000"/>
                </a:solidFill>
                <a:latin typeface="Arial"/>
              </a:rPr>
              <a:t>ренатурациј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0000"/>
                </a:solidFill>
                <a:latin typeface="Arial"/>
              </a:rPr>
              <a:t>Хибридизација ДНК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етода за процену генетичке сличности међу удаљеним врста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или у методама молекуларне генетик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0592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0000"/>
                </a:solidFill>
                <a:latin typeface="Arial"/>
              </a:rPr>
              <a:t>Рибонуклинска киселина - РНК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За разлику од ДНК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РНК ј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400" spc="-1" strike="noStrike">
                <a:solidFill>
                  <a:srgbClr val="0000ff"/>
                </a:solidFill>
                <a:latin typeface="Arial"/>
              </a:rPr>
              <a:t>једноланчан</a:t>
            </a:r>
            <a:r>
              <a:rPr b="1" i="1" lang="sr-CS" sz="2400" spc="-1" strike="noStrike">
                <a:solidFill>
                  <a:srgbClr val="0000ff"/>
                </a:solidFill>
                <a:latin typeface="Arial"/>
              </a:rPr>
              <a:t>и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молекул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 рибонуклеотиду се налази пентозни шећер </a:t>
            </a:r>
            <a:r>
              <a:rPr b="1" i="1" lang="sr-Latn-CS" sz="2400" spc="-1" strike="noStrike">
                <a:solidFill>
                  <a:srgbClr val="0000ff"/>
                </a:solidFill>
                <a:latin typeface="Arial"/>
              </a:rPr>
              <a:t>рибоз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место тимина заступљена је п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мидинска база </a:t>
            </a:r>
            <a:r>
              <a:rPr b="1" i="1" lang="sr-Latn-CS" sz="2400" spc="-1" strike="noStrike">
                <a:solidFill>
                  <a:srgbClr val="0000ff"/>
                </a:solidFill>
                <a:latin typeface="Arial"/>
              </a:rPr>
              <a:t>ураци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5" name="Picture 4" descr="dna_versus_rna_reversed"/>
          <p:cNvPicPr/>
          <p:nvPr/>
        </p:nvPicPr>
        <p:blipFill>
          <a:blip r:embed="rId1"/>
          <a:stretch/>
        </p:blipFill>
        <p:spPr>
          <a:xfrm>
            <a:off x="4343400" y="1371600"/>
            <a:ext cx="45529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04617b"/>
                </a:solidFill>
                <a:latin typeface="Arial"/>
              </a:rPr>
              <a:t>Врсте РНК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75438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нформациона РНК - иРНК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(mRN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ранспрортна РНК - тРНК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ибозомална РНК - рНК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4617b"/>
                </a:solidFill>
                <a:latin typeface="Arial"/>
              </a:rPr>
              <a:t>Информациона РНК (</a:t>
            </a:r>
            <a:r>
              <a:rPr b="1" lang="sr-CS" sz="4400" spc="-1" strike="noStrike">
                <a:solidFill>
                  <a:srgbClr val="04617b"/>
                </a:solidFill>
                <a:latin typeface="Calibri"/>
              </a:rPr>
              <a:t>иРНК</a:t>
            </a:r>
            <a:r>
              <a:rPr b="1" lang="sr-CS" sz="4400" spc="-1" strike="noStrike">
                <a:solidFill>
                  <a:srgbClr val="04617b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8088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Примарни је продукт одређене секвенце ДН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Има улогу да пренесе информацију из једра до рибозома у цитоплазми за синтезу протеин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Различите је дужине, а њена дужина зависи од величине гена са кога се преписуј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Траје док не обави своју функцију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4617b"/>
                </a:solidFill>
                <a:latin typeface="Arial"/>
              </a:rPr>
              <a:t>Транспортна РНК (тРНК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0" y="2285640"/>
            <a:ext cx="541008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римарни је продукт секвенце ДНК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Величине је 70-90 нуклеотид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ма улогу да веже за себе и пренесе 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и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селин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до рибозом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 простору формира структуру која подсећа на детелину с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лист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2" name="Picture 3" descr="tRNA"/>
          <p:cNvPicPr/>
          <p:nvPr/>
        </p:nvPicPr>
        <p:blipFill>
          <a:blip r:embed="rId1"/>
          <a:stretch/>
        </p:blipFill>
        <p:spPr>
          <a:xfrm>
            <a:off x="5111640" y="1981080"/>
            <a:ext cx="3807000" cy="38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4617b"/>
                </a:solidFill>
                <a:latin typeface="Arial"/>
              </a:rPr>
              <a:t>Рибозомална РНК (рРНК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примарни транскрипт одређене секвенце ДН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ма улогу у повезивању иРНК за рибозом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ак 70% РНК у ћелији је рРН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5" name="Picture 3" descr="I11-21-rRNA2"/>
          <p:cNvPicPr/>
          <p:nvPr/>
        </p:nvPicPr>
        <p:blipFill>
          <a:blip r:embed="rId1"/>
          <a:stretch/>
        </p:blipFill>
        <p:spPr>
          <a:xfrm>
            <a:off x="1066680" y="3809880"/>
            <a:ext cx="7391520" cy="24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925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Constantia"/>
              </a:rPr>
              <a:t>Фракције РНК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sn РНК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- налазе се у сплајсозомима, имају улогу у обради примарне иРН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sno РНК -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имају улогу у модификацији рРНК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mikro РНК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дужине 22 нуклеотида, везују се за иРНК и регулишу синтезу протеин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antisens РНК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– искључује кодирајуће сегменте у  ДНК (sens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Дезоксирибонуклеинска киселина - ДНК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лекул ДНК испуњава три основна услова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оси информацију за синтезу протеина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ма способност повременог мењања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има способност ауторепродукције,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 је зато 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значен као 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наследна супстанц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зузетно код неких вируса  то може да буде РНК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ви предл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екундарн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труктуре молекула ДНК дали су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отсо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ик 1953. годин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152280" y="1447920"/>
            <a:ext cx="419112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рем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отсону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рику молекул ДНК се састоји од два полинуклеотидна ланца комплементарне грађе који су спирално обавијени један око другог и међусобно су повезани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одоничним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везам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9" name="Picture 3" descr="DNA"/>
          <p:cNvPicPr/>
          <p:nvPr/>
        </p:nvPicPr>
        <p:blipFill>
          <a:blip r:embed="rId1"/>
          <a:stretch/>
        </p:blipFill>
        <p:spPr>
          <a:xfrm>
            <a:off x="4724280" y="685800"/>
            <a:ext cx="270540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68680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4617b"/>
                </a:solidFill>
                <a:latin typeface="Arial"/>
              </a:rPr>
              <a:t>Основна јединица грађе - 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нуклеотид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5334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Нуклеотид се састоји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од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ентозног шећера </a:t>
            </a:r>
            <a:r>
              <a:rPr b="1" lang="sr-Latn-CS" sz="2200" spc="-1" strike="noStrike">
                <a:solidFill>
                  <a:srgbClr val="0000ff"/>
                </a:solidFill>
                <a:latin typeface="Arial"/>
                <a:ea typeface="Arial"/>
              </a:rPr>
              <a:t>дезоксирибозе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ф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осфатне групе </a:t>
            </a:r>
            <a:r>
              <a:rPr b="1" lang="sr-CS" sz="2200" spc="-1" strike="noStrike">
                <a:solidFill>
                  <a:srgbClr val="0000ff"/>
                </a:solidFill>
                <a:latin typeface="Arial"/>
                <a:ea typeface="Arial"/>
              </a:rPr>
              <a:t>Р</a:t>
            </a:r>
            <a:r>
              <a:rPr b="1" lang="sr-Latn-CS" sz="2200" spc="-1" strike="noStrike">
                <a:solidFill>
                  <a:srgbClr val="0000ff"/>
                </a:solidFill>
                <a:latin typeface="Arial"/>
                <a:ea typeface="Arial"/>
              </a:rPr>
              <a:t>О</a:t>
            </a:r>
            <a:r>
              <a:rPr b="1" lang="sr-Latn-CS" sz="2200" spc="-1" strike="noStrike" baseline="-25000">
                <a:solidFill>
                  <a:srgbClr val="0000ff"/>
                </a:solidFill>
                <a:latin typeface="Arial"/>
                <a:ea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ff"/>
                </a:solidFill>
                <a:latin typeface="Arial"/>
                <a:ea typeface="Arial"/>
              </a:rPr>
              <a:t>азотне б</a:t>
            </a:r>
            <a:r>
              <a:rPr b="1" lang="sr-Latn-CS" sz="2200" spc="-1" strike="noStrike">
                <a:solidFill>
                  <a:srgbClr val="0000ff"/>
                </a:solidFill>
                <a:latin typeface="Arial"/>
                <a:ea typeface="Arial"/>
              </a:rPr>
              <a:t>азе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пуринске или пиримидинске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У оквиру једног ланца, међусобно су повезани </a:t>
            </a:r>
            <a:r>
              <a:rPr b="1" lang="sr-RS" sz="2200" spc="-1" strike="noStrike">
                <a:solidFill>
                  <a:srgbClr val="0000ff"/>
                </a:solidFill>
                <a:latin typeface="Arial"/>
                <a:ea typeface="Arial"/>
              </a:rPr>
              <a:t>фосфодиестерским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  <a:ea typeface="Arial"/>
              </a:rPr>
              <a:t> везам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У зависности од типа базе разликујемо </a:t>
            </a:r>
            <a:r>
              <a:rPr b="1" lang="sr-Latn-CS" sz="2200" spc="-1" strike="noStrike">
                <a:solidFill>
                  <a:srgbClr val="0000ff"/>
                </a:solidFill>
                <a:latin typeface="Arial"/>
                <a:ea typeface="Arial"/>
              </a:rPr>
              <a:t>4 типа нуклеотид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2" name="Picture 5" descr="nuclei1"/>
          <p:cNvPicPr/>
          <p:nvPr/>
        </p:nvPicPr>
        <p:blipFill>
          <a:blip r:embed="rId1"/>
          <a:stretch/>
        </p:blipFill>
        <p:spPr>
          <a:xfrm>
            <a:off x="6248520" y="1143000"/>
            <a:ext cx="2203200" cy="22669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nucleotides"/>
          <p:cNvPicPr/>
          <p:nvPr/>
        </p:nvPicPr>
        <p:blipFill>
          <a:blip r:embed="rId2"/>
          <a:stretch/>
        </p:blipFill>
        <p:spPr>
          <a:xfrm>
            <a:off x="5715000" y="3730680"/>
            <a:ext cx="327672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400" spc="-1" strike="noStrike">
                <a:solidFill>
                  <a:srgbClr val="04617b"/>
                </a:solidFill>
                <a:latin typeface="Arial"/>
              </a:rPr>
              <a:t>Спољашњи скелет ДНК</a:t>
            </a:r>
            <a:r>
              <a:rPr b="0" lang="sr-CS" sz="3400" spc="-1" strike="noStrike">
                <a:solidFill>
                  <a:srgbClr val="04617b"/>
                </a:solidFill>
                <a:latin typeface="Arial"/>
              </a:rPr>
              <a:t> </a:t>
            </a:r>
            <a:br>
              <a:rPr sz="3400"/>
            </a:br>
            <a:r>
              <a:rPr b="0" lang="sr-CS" sz="3400" spc="-1" strike="noStrike">
                <a:solidFill>
                  <a:srgbClr val="04617b"/>
                </a:solidFill>
                <a:latin typeface="Arial"/>
              </a:rPr>
              <a:t>чине дезоксирибозе и</a:t>
            </a:r>
            <a:r>
              <a:rPr b="0" lang="sr-Latn-CS" sz="3400" spc="-1" strike="noStrike">
                <a:solidFill>
                  <a:srgbClr val="04617b"/>
                </a:solidFill>
                <a:latin typeface="Arial"/>
              </a:rPr>
              <a:t> PO</a:t>
            </a:r>
            <a:r>
              <a:rPr b="0" lang="sr-Latn-CS" sz="3400" spc="-1" strike="noStrike" baseline="-25000">
                <a:solidFill>
                  <a:srgbClr val="04617b"/>
                </a:solidFill>
                <a:latin typeface="Arial"/>
              </a:rPr>
              <a:t>4</a:t>
            </a:r>
            <a:r>
              <a:rPr b="0" lang="sr-Latn-CS" sz="3400" spc="-1" strike="noStrike" baseline="30000">
                <a:solidFill>
                  <a:srgbClr val="04617b"/>
                </a:solidFill>
                <a:latin typeface="Arial"/>
              </a:rPr>
              <a:t> </a:t>
            </a:r>
            <a:r>
              <a:rPr b="0" lang="sr-CS" sz="3400" spc="-1" strike="noStrike">
                <a:solidFill>
                  <a:srgbClr val="04617b"/>
                </a:solidFill>
                <a:latin typeface="Arial"/>
              </a:rPr>
              <a:t>групе</a:t>
            </a:r>
            <a:endParaRPr b="0" lang="en-US" sz="3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5" name="Picture 3" descr="img030"/>
          <p:cNvPicPr/>
          <p:nvPr/>
        </p:nvPicPr>
        <p:blipFill>
          <a:blip r:embed="rId1"/>
          <a:stretch/>
        </p:blipFill>
        <p:spPr>
          <a:xfrm>
            <a:off x="228600" y="2590920"/>
            <a:ext cx="2486160" cy="30193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schemat_budowy_DNA_b"/>
          <p:cNvPicPr/>
          <p:nvPr/>
        </p:nvPicPr>
        <p:blipFill>
          <a:blip r:embed="rId2"/>
          <a:stretch/>
        </p:blipFill>
        <p:spPr>
          <a:xfrm>
            <a:off x="3352680" y="2514600"/>
            <a:ext cx="547704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228240" y="45720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одоничне везе се успостављају између комплементарних база два наспрамна ланца молекула ДНК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омплементарност је утвр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ен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аргафовим открићем (1951)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оличина гуанина једнака је количини цитозина, а количина аденина једнака је количини тимин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односно количина пурина једнака је количини пиримидина (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Чаргафово правил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8" name="Picture 3" descr="DNA2"/>
          <p:cNvPicPr/>
          <p:nvPr/>
        </p:nvPicPr>
        <p:blipFill>
          <a:blip r:embed="rId1"/>
          <a:stretch/>
        </p:blipFill>
        <p:spPr>
          <a:xfrm>
            <a:off x="6141960" y="3657600"/>
            <a:ext cx="2849760" cy="3186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981080" y="3897360"/>
            <a:ext cx="2819520" cy="270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500" spc="-1" strike="noStrike">
                <a:solidFill>
                  <a:srgbClr val="04617b"/>
                </a:solidFill>
                <a:latin typeface="Arial"/>
              </a:rPr>
              <a:t>Водоничне везе</a:t>
            </a:r>
            <a:br>
              <a:rPr sz="2500"/>
            </a:br>
            <a:br>
              <a:rPr sz="2500"/>
            </a:br>
            <a:br>
              <a:rPr sz="2500"/>
            </a:br>
            <a:r>
              <a:rPr b="1" lang="sr-CS" sz="2500" spc="-1" strike="noStrike">
                <a:solidFill>
                  <a:srgbClr val="0000ff"/>
                </a:solidFill>
                <a:latin typeface="Arial"/>
              </a:rPr>
              <a:t>А</a:t>
            </a:r>
            <a:r>
              <a:rPr b="1" lang="en-US" sz="2500" spc="-1" strike="noStrike">
                <a:solidFill>
                  <a:srgbClr val="0000ff"/>
                </a:solidFill>
                <a:latin typeface="Arial"/>
                <a:ea typeface="Times New Roman"/>
              </a:rPr>
              <a:t>=</a:t>
            </a:r>
            <a:r>
              <a:rPr b="1" lang="sr-CS" sz="2500" spc="-1" strike="noStrike">
                <a:solidFill>
                  <a:srgbClr val="0000ff"/>
                </a:solidFill>
                <a:latin typeface="Arial"/>
                <a:ea typeface="Times New Roman"/>
              </a:rPr>
              <a:t>Т</a:t>
            </a:r>
            <a:br>
              <a:rPr sz="2500"/>
            </a:br>
            <a:br>
              <a:rPr sz="2500"/>
            </a:br>
            <a:r>
              <a:rPr b="1" lang="sr-Latn-CS" sz="2500" spc="-1" strike="noStrike">
                <a:solidFill>
                  <a:srgbClr val="0000ff"/>
                </a:solidFill>
                <a:latin typeface="Arial"/>
              </a:rPr>
              <a:t>G</a:t>
            </a:r>
            <a:r>
              <a:rPr b="1" lang="sr-CS" sz="2500" spc="-1" strike="noStrike">
                <a:solidFill>
                  <a:srgbClr val="0000ff"/>
                </a:solidFill>
                <a:latin typeface="Arial"/>
                <a:ea typeface="Times New Roman"/>
              </a:rPr>
              <a:t>≡С</a:t>
            </a:r>
            <a:br>
              <a:rPr sz="2500"/>
            </a:b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80880" y="1920600"/>
            <a:ext cx="4114800" cy="463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Ген је секвенц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молекул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ДНК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која носи информацију за синтезу функционалног продукт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Структура ген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зависи од распореда и редоследа 4 типа нуклеотида (А тип, G тип, C тип, Т тип нуклеотида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990720" y="685800"/>
            <a:ext cx="70866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ГЕН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62" name="Object 6"/>
          <p:cNvGraphicFramePr/>
          <p:nvPr/>
        </p:nvGraphicFramePr>
        <p:xfrm>
          <a:off x="5638680" y="228600"/>
          <a:ext cx="3276720" cy="287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228600"/>
                    <a:ext cx="3276720" cy="28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4" name="Object 6"/>
          <p:cNvGraphicFramePr/>
          <p:nvPr/>
        </p:nvGraphicFramePr>
        <p:xfrm>
          <a:off x="6477120" y="3505320"/>
          <a:ext cx="2170080" cy="310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77120" y="3505320"/>
                    <a:ext cx="2170080" cy="31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Полиморфност завојнице ДНК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80520" y="1218960"/>
            <a:ext cx="84582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НК завојница може да се нађе у више различитих фор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завојниц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ајвећи део ДНК је им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24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завојниц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астаје дехидратацијом B завојниц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ffc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завојниц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изузетно је ретк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ма шећерно-фосфатну кичму у цик-цак облику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8" name="Picture 3" descr="A- B- and Z-DNA"/>
          <p:cNvPicPr/>
          <p:nvPr/>
        </p:nvPicPr>
        <p:blipFill>
          <a:blip r:embed="rId1"/>
          <a:stretch/>
        </p:blipFill>
        <p:spPr>
          <a:xfrm>
            <a:off x="2133720" y="4095720"/>
            <a:ext cx="525780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4617b"/>
                </a:solidFill>
                <a:latin typeface="Arial"/>
              </a:rPr>
              <a:t>Три типа</a:t>
            </a:r>
            <a:r>
              <a:rPr b="1" lang="en-US" sz="40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04617b"/>
                </a:solidFill>
                <a:latin typeface="Arial"/>
              </a:rPr>
              <a:t>секвенци ДНК</a:t>
            </a:r>
            <a:r>
              <a:rPr b="1" lang="en-US" sz="4000" spc="-1" strike="noStrike">
                <a:solidFill>
                  <a:srgbClr val="04617b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Непоновљив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секвенц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(сингл)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мају једну копију-функционалне, одговорне за синтезу полипептид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Умерено 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поновљ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иве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(10-10.000 х)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еквенце - функционалне, одговорне су за синтезу тРНК и рРНК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И иРНК за синтезу хистон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Високо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поновљив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секвенце –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ко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00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x поновљене - нису  функционалне, пр. сателитне ДНК у региону центромера хромозом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11:26:11Z</dcterms:created>
  <dc:creator>Olivera</dc:creator>
  <dc:description/>
  <dc:language>en-US</dc:language>
  <cp:lastModifiedBy>Ryzen</cp:lastModifiedBy>
  <dcterms:modified xsi:type="dcterms:W3CDTF">2022-08-22T10:01:54Z</dcterms:modified>
  <cp:revision>101</cp:revision>
  <dc:subject/>
  <dc:title>2-Humani genom</dc:title>
</cp:coreProperties>
</file>